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2D4-4679-4342-893E-6C49475C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B5E-0351-46A8-A1B6-EC118B3D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578-5675-472F-8AF9-C6D9A20C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081D-DB6A-4073-A00C-DAF9E7BF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3FF-8DE3-4C13-AD5C-43E21685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EA47-80BE-43FC-8385-6BA47772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32A3-6DB5-4D89-BAEF-3FFB88FC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595-69CD-485D-9109-80BD6CA7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230-7040-4EE6-BF56-D2690F0B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87E-330E-4003-934F-61E7C503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B1F-D0AB-4A4A-AFC9-F6E3D4D2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B1D-1C48-4347-9810-B3DDEA35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2A7C-57D7-413B-BE14-704F60B05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0"/>
            <a:ext cx="91440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irements for script and powerpoi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ee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me of your s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re the station is located (must be a city in a German speaking countr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na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y and date (this can be any date of your choos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p story  (Unsere Hauptbericht  [our top story] ist…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animal is missing or lost. (missing – Ein/eine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nimal fehl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) (lost – Ein/eine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nima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t verloren.) “We have the owner here”.  (Besitzer/Besitzerin - ow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oth say hel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for owner’s name and ans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where s/he liv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 Type animal they are looking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 the name of the an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description using colors and siz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 the tempera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a interesting detail about the p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contact number and/or email address if the animal is found. (Wenn gefunden, rufen Sie bei….. an.)  (Wenn gefunden, schicken Sie eine Email an…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ank you (said to the interviewe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oth must say Goodby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1" descr=""/>
          <p:cNvPicPr/>
          <p:nvPr/>
        </p:nvPicPr>
        <p:blipFill>
          <a:blip r:embed="rId1"/>
          <a:stretch/>
        </p:blipFill>
        <p:spPr>
          <a:xfrm>
            <a:off x="6718320" y="-189000"/>
            <a:ext cx="26449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010720" cy="3786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0" y="40384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320" y="685800"/>
          <a:ext cx="8991360" cy="6035760"/>
        </p:xfrm>
        <a:graphic>
          <a:graphicData uri="http://schemas.openxmlformats.org/drawingml/2006/table">
            <a:tbl>
              <a:tblPr/>
              <a:tblGrid>
                <a:gridCol w="1325520"/>
                <a:gridCol w="1587600"/>
                <a:gridCol w="1806480"/>
                <a:gridCol w="1643040"/>
                <a:gridCol w="1369800"/>
                <a:gridCol w="1258920"/>
              </a:tblGrid>
              <a:tr h="1825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rements/ Direc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less than 40%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40 - 60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61 - 80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81 - 99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100%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mmar accur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errors in required elements and prior grammar concepts make meaning completely unclea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t errors in both required elements and prior grammar concepts significantly hinder meaning in some instance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ly understandable, with errors in both required elements and prior grammar concepts that may impede comprehensibi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ly correct – but errors exist in required elements;  however, they do not impede comprehen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s control of grammar with only minor mistakes; however, none in the required element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ken Fluenc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ce is so choppy that it impeded the ability to be understoo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times pace makes it hard to understand.  Only a sympathetic listener would understan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ce is appropriate for a mid-novice speak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unc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pronunciation and use of English makes language almost impossible to understand.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pronunciation and use of English makes language difficult to understand, even for a sympathetic listen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times pronunciation makes it hard to understand.  Only a sympathetic listener would understan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unciation is appropriate for a mid-novice speak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hen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ain idea is unclear due to irrelevant detail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aker clearly conveys the main idea, providing details and fulfilling all of the requiremen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of Express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novice level speak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mid-novice level speak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adequate and inaccurate use of vocabu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inaccurate use of vocabulary and/or too basic for the lev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use of vocabulary with little or no varie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and varied use of vocabulary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"/>
          <p:cNvSpPr/>
          <p:nvPr/>
        </p:nvSpPr>
        <p:spPr>
          <a:xfrm>
            <a:off x="380880" y="4968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ing Skills Rubric for Level II Language:  Upper Dublin School Distr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al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/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6320" y="685800"/>
          <a:ext cx="8991360" cy="6189840"/>
        </p:xfrm>
        <a:graphic>
          <a:graphicData uri="http://schemas.openxmlformats.org/drawingml/2006/table">
            <a:tbl>
              <a:tblPr/>
              <a:tblGrid>
                <a:gridCol w="1325520"/>
                <a:gridCol w="1587600"/>
                <a:gridCol w="1806480"/>
                <a:gridCol w="1643040"/>
                <a:gridCol w="1369800"/>
                <a:gridCol w="1258920"/>
              </a:tblGrid>
              <a:tr h="1825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rements/ Direc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less than 40%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40 - 60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61 - 80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81 - 99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100%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mmar accur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errors in required elements and prior grammar concepts make meaning completely unclea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t errors in both required elements and prior grammar concepts significantly hinder meaning in some instance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ly understandable, with errors in both required elements and prior grammar concepts that may impede comprehensibi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ly correct – but errors exist in required elements;  however, they do not impede comprehen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s control of grammar with only minor mistakes; however, none in the required element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ten Fluenc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rements were simply put into the script without much thought of written f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ics were jumpy.  Lack of transition words and rejoinders, made the script sound unnatur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ics flowed easily and seemed natural for a mid-novice wri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hen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ain idea is unclear due to irrelevant detail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aker clearly conveys the main idea, providing details and fulfilling all of the requiremen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of Express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novice level speak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mid-novice level speak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inaccurate use of vocabulary and/or too basic for the lev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use of vocabulary with little or no varie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and varied use of vocabulary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ired elements underli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 than 40% of the requirements of the requirements were underlined and correctly labe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- 60% of the requirements were underlined and correctly labe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- 80% of the requirements were underlined and correctly labe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81 - 99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 of the requirements were underlined and correctly labe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Rectangle 1"/>
          <p:cNvSpPr/>
          <p:nvPr/>
        </p:nvSpPr>
        <p:spPr>
          <a:xfrm>
            <a:off x="380880" y="4968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ing Skills Rubric for Level II Language:  Upper Dublin School Distr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ten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/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320" y="685800"/>
          <a:ext cx="8991360" cy="3075120"/>
        </p:xfrm>
        <a:graphic>
          <a:graphicData uri="http://schemas.openxmlformats.org/drawingml/2006/table">
            <a:tbl>
              <a:tblPr/>
              <a:tblGrid>
                <a:gridCol w="1325520"/>
                <a:gridCol w="1587600"/>
                <a:gridCol w="1806480"/>
                <a:gridCol w="1643040"/>
                <a:gridCol w="1369800"/>
                <a:gridCol w="1258920"/>
              </a:tblGrid>
              <a:tr h="1825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rements/ Direc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less than 40%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40 - 60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61 - 80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81 - 99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100%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ten accur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errors in required elements on slide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t errors in the on the slides (misspellin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hough generally understandable errors do ex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ct – no errors in written Ger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ctures in  pres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tion repeated pictures and used inaccurate pi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tion repeated pictures or used inaccurate pi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erifa Std 45 Light"/>
                          <a:ea typeface="Times New Roman"/>
                        </a:rPr>
                        <a:t>Pictures were adequate, but presentation lacked pol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ctures showed thought and creativity, but presentation was lacking polis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ye catching pictures -- unique and creative.  Added to the presen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1"/>
          <p:cNvSpPr/>
          <p:nvPr/>
        </p:nvSpPr>
        <p:spPr>
          <a:xfrm>
            <a:off x="380880" y="14112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werPoint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-1200240" y="3956040"/>
            <a:ext cx="47847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-22320"/>
            <a:ext cx="4572000" cy="313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ript requirements for beginning newscast and introduction of the missing pet seg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l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ro of newsc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y and date (this can be any date of your choosing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p story  (Unsere Hauptbericht  [our top story] ist… 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n animal is missing or lost. (missing – Ein/eine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Animal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ehlt.) (lost – Ein/eine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Anima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st verloren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 have the owner here”.  (Besitzer/Besitzerin - owner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contact number and/or email address if the animal is found. (Wenn gefunden, rufen Sie bei….. an.)  (Wenn gefunden, schicken Sie eine Email an…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odb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4572000" y="0"/>
            <a:ext cx="4572000" cy="204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ript Requirements for the interview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and answer:  asking for owner’s name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and answer: where s/he liv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and answer:  Type animal they are looking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and answer:  the name of the anim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and answer: description using colors and si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and answer:  the temper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and answer: 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and answer: an interesting detail about the p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551480" y="4530600"/>
            <a:ext cx="4592520" cy="23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presentation requirement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ing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ll let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ccurate picture of missing an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erman speaking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 weather 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ys of the week written on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mperatures written on the slide (in Celsiu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0" y="2057400"/>
            <a:ext cx="45720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ript requirements for the weather forecas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roduction for the weather (you can’t just jump into the weather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 day foreca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roduce and talk about the weather for each d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gical temperatures (all numbers said in German NOT WRI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gical weather conditions for each day (you may write these on the sli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 you for watching (Danke fürs Zuschaue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odby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-1305000" y="3127320"/>
            <a:ext cx="588348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20:55:28Z</dcterms:created>
  <dc:creator>ahart</dc:creator>
  <dc:description/>
  <dc:language>en-US</dc:language>
  <cp:lastModifiedBy>Alissa Hart</cp:lastModifiedBy>
  <dcterms:modified xsi:type="dcterms:W3CDTF">2014-10-28T13:16:42Z</dcterms:modified>
  <cp:revision>24</cp:revision>
  <dc:subject/>
  <dc:title>Slide 1</dc:title>
</cp:coreProperties>
</file>